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6A-6679-4289-9BA8-1E626D0E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6B5-77D1-48A8-A92D-066CF0E0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C9-3436-4EE4-994B-39A720FF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A28-C5C1-455F-AD30-DBD800C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5353-00EE-40D1-A9A0-747445AF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7E1F-251F-486F-B38E-0994229C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4D8A-9034-4AA5-B06F-2A6FDB1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111-4CFA-4549-9684-8058451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3B9-B668-4986-8575-AE04F15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88EE-F369-48D2-AFCE-77BF476F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DE8-46BD-4994-AEC3-019FFAC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45-6046-4ECE-86E9-C064BD3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9B29-C722-4CE7-AE9C-7FEF9BC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2AF-8754-463D-8255-51E30A2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4E17-56D6-49B0-B3DA-A949536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6D5C-A315-49F0-B4F0-065A01DB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282-9785-461D-9D81-5A4CAEB8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C8B5-D04A-4BC9-A17D-253AAC02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B469-7D85-4553-80D2-CB32214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4F64-C79A-484D-99D0-56E5DD8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3C9B-4D97-4AF7-9F8E-E0499E3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BFD0-C8D5-4EA8-9737-F0E0AAE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F8C-90B0-4B29-9989-131EC0A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77E4-BA0E-4C26-AE50-0296378D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76F3-208E-4663-9AC1-E095171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F922-B0C0-4697-B500-E077122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FE46-2F28-4D69-9410-4F3654B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CF6F-A245-4755-88A8-8DD15831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A5DB-F8B4-44D0-9ECA-67A570BE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9791-BA9F-46AA-A308-503C18C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F2B5-3BEA-451D-93D6-74DDE6CD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C3B4-3FFD-4CA2-9800-014EC2C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378A-FD6A-4BF1-B613-41EACEB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F9D-D64A-4947-95D3-CAF34D0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334F-6957-443A-BB2A-62E09D6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B7E5-8C71-4FA9-A9E7-51AF779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7A89-9225-46E1-A6EB-AD6A8E0D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A365-80C5-49CD-8114-998327E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6B6B-40E1-4FE4-82FA-5D05429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0EDC-7A88-4913-B954-0F7214F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364C-3BA5-4A51-A8FF-B4446909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BF95-D129-4A09-A742-FF3C31C7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DF50-5AEE-4B72-989D-07CC2908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D933-8830-4E45-BCF6-52F99E0C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EF2-E3BE-4395-9187-36B962D6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3EEC-0C9E-42AF-94B6-9D804D4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9240-F5E9-4B2A-9A91-BBF9966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2EB9-9E34-4A3C-8B85-8C92786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6E89-8EA5-4C49-9893-2EFF07B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F80D-861B-457C-986C-923006B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D8DB-F1C9-4E96-AABE-7787522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E483-F959-448E-9BA1-93ACA44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9D827-FBFF-4101-BF02-677C5C9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9884-9A67-446B-B4C7-B5A987CE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0EE7-6AD4-40B7-A0BC-1DD2BC57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9DC-6DA3-41D8-B823-1F42422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675E-591C-49BE-A8BD-C263E10A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AE378-35CC-467B-A965-5FC82D88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8DBE2-2AC2-4E51-AA3A-A614D01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02310-DB55-403D-8788-50FED3F3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94E23-75B6-43A6-8285-782031F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4C878-95ED-4D2A-9083-EB06BD3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7A10E-8EF8-4CD8-9DC9-0A58889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252BD-AE76-42FD-AC88-7DFFBBB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7BAA2-D8FB-4E9E-B561-4F8A1AB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4FD6D-443E-46AA-983C-21E1E1D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63E-B8E3-4528-9776-DBAB446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FD757-2A76-4BF6-B637-AD1D2E2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3C349-83E5-4749-B545-A2350EB7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9BC0E-8F7B-47F2-AA01-A054149C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60B9-DF6C-47CD-9E54-2C3DAFDC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3729-7F8D-429D-A32F-803B04A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F0E7-2461-4D24-90D4-78D8D0B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9F61-985B-42E3-A37E-4E617BA3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96FC-96A8-48B9-A2B3-0B6C5EB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AEC6-A96D-4EE5-8F4A-87466D3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88BF-07E6-4A92-9A5D-D2FA274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BC2-35D6-41F0-AAAF-48380752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AAF90-6FBC-4737-AB3A-45C72F0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E53D-AA43-469C-94BB-D9691AF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F1C2-DF15-462F-B0F9-450E69B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D308A-B6D3-4BA4-92C3-7A71D296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BD36-3576-4C47-BEA9-21D75356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29B-2C6B-46C4-990A-73F2D77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95AE-1C02-4BF7-B215-4B9DCC02329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248-9E1E-4D9C-9DAE-D32DD9B1BB11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65F-7A9A-4228-A3AF-6E24246B980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645C-892B-4D8E-9855-439E4DD4111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545-2897-4C6F-9BAE-F55779CC751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539-9C94-4EC4-9BBD-721995E2E8D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9115-BFDD-4A49-87C5-340374947A2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jka.ru/blog/zagadki/443.html" TargetMode="External"/><Relationship Id="rId2" Type="http://schemas.openxmlformats.org/officeDocument/2006/relationships/hyperlink" Target="http://cliparti.jimdo.com/" TargetMode="External"/><Relationship Id="rId3" Type="http://schemas.openxmlformats.org/officeDocument/2006/relationships/hyperlink" Target="http://afield.org.ua/mod3/mod74_1.html" TargetMode="External"/><Relationship Id="rId4" Type="http://schemas.openxmlformats.org/officeDocument/2006/relationships/hyperlink" Target="http://www.russian-ornament.ru/" TargetMode="External"/><Relationship Id="rId5" Type="http://schemas.openxmlformats.org/officeDocument/2006/relationships/hyperlink" Target="http://www.ozon.ru/person/2768776/" TargetMode="External"/><Relationship Id="rId6" Type="http://schemas.openxmlformats.org/officeDocument/2006/relationships/hyperlink" Target="http://www.ozon.ru/brand/858454/" TargetMode="External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ocrafts.co.uk.moikompas.ru/img/compas/2010-01-08/kruzheva_v_vyazhenii/4471490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ed=1&amp;text=&#1094;&#1074;&#1077;&#1090;&#1086;&#1095;&#1085;&#1099;&#1081;%20&#1086;&#1088;&#1085;&#1072;&#1084;&#1077;&#1085;&#1090;&amp;p=26&amp;img_url=1m1.ucoz.ru%2FVEKTOR%2FORNAMENT%2FORNAMENT_01%2F01%2F17.jpg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g-fotki.yandex.ru/get/4519/81454286.292/0_81152_f55cda2d_XL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.allday.ru/6b/0e/d6/1295575267_ar_stranica_14-1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6" descr="4683827_20130109_143515 (394x559, 104Kb)/4683827_20130117_151114 (429x475, 163Kb)"/>
          <p:cNvPicPr/>
          <p:nvPr/>
        </p:nvPicPr>
        <p:blipFill>
          <a:blip r:embed="rId1"/>
          <a:stretch/>
        </p:blipFill>
        <p:spPr>
          <a:xfrm>
            <a:off x="6084720" y="1844640"/>
            <a:ext cx="2737080" cy="248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4683827_20130111_140315 (371x419, 80Kb)"/>
          <p:cNvPicPr/>
          <p:nvPr/>
        </p:nvPicPr>
        <p:blipFill>
          <a:blip r:embed="rId2"/>
          <a:stretch/>
        </p:blipFill>
        <p:spPr>
          <a:xfrm>
            <a:off x="241200" y="1844640"/>
            <a:ext cx="3533760" cy="3990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692000" y="475920"/>
            <a:ext cx="6553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рок ИЗО в 1 класс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Узоры, которые создали люди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3751200" y="4941720"/>
            <a:ext cx="5070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оставитель: Лунегова Светлана Вяче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итель начальных классов,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БОУ «СОШ № 2 г.Юрги» Юргин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ородской округ Кеме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проект 006"/>
          <p:cNvPicPr/>
          <p:nvPr/>
        </p:nvPicPr>
        <p:blipFill>
          <a:blip r:embed="rId1"/>
          <a:stretch/>
        </p:blipFill>
        <p:spPr>
          <a:xfrm>
            <a:off x="900000" y="1125360"/>
            <a:ext cx="3240360" cy="4319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проект 005"/>
          <p:cNvPicPr/>
          <p:nvPr/>
        </p:nvPicPr>
        <p:blipFill>
          <a:blip r:embed="rId2"/>
          <a:stretch/>
        </p:blipFill>
        <p:spPr>
          <a:xfrm>
            <a:off x="4716360" y="944640"/>
            <a:ext cx="3494160" cy="4680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Русский народный крестьянский костюм"/>
          <p:cNvPicPr/>
          <p:nvPr/>
        </p:nvPicPr>
        <p:blipFill>
          <a:blip r:embed="rId3"/>
          <a:srcRect l="37672" t="0" r="24686" b="0"/>
          <a:stretch/>
        </p:blipFill>
        <p:spPr>
          <a:xfrm>
            <a:off x="1403280" y="1689120"/>
            <a:ext cx="1484280" cy="3138480"/>
          </a:xfrm>
          <a:prstGeom prst="rect">
            <a:avLst/>
          </a:prstGeom>
          <a:ln w="0">
            <a:noFill/>
          </a:ln>
        </p:spPr>
      </p:pic>
      <p:grpSp>
        <p:nvGrpSpPr>
          <p:cNvPr id="369" name="Группа 3"/>
          <p:cNvGrpSpPr/>
          <p:nvPr/>
        </p:nvGrpSpPr>
        <p:grpSpPr>
          <a:xfrm>
            <a:off x="6300720" y="1393920"/>
            <a:ext cx="938160" cy="3902040"/>
            <a:chOff x="6300720" y="1393920"/>
            <a:chExt cx="938160" cy="3902040"/>
          </a:xfrm>
        </p:grpSpPr>
        <p:pic>
          <p:nvPicPr>
            <p:cNvPr id="370" name="Picture 7" descr="Русский народный крестьянский костюм"/>
            <p:cNvPicPr/>
            <p:nvPr/>
          </p:nvPicPr>
          <p:blipFill>
            <a:blip r:embed="rId4"/>
            <a:srcRect l="0" t="0" r="60574" b="0"/>
            <a:stretch/>
          </p:blipFill>
          <p:spPr>
            <a:xfrm>
              <a:off x="6300720" y="1393920"/>
              <a:ext cx="93816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7" descr="Русский народный крестьянский костюм"/>
            <p:cNvPicPr/>
            <p:nvPr/>
          </p:nvPicPr>
          <p:blipFill>
            <a:blip r:embed="rId5"/>
            <a:srcRect l="68314" t="0" r="0" b="0"/>
            <a:stretch/>
          </p:blipFill>
          <p:spPr>
            <a:xfrm>
              <a:off x="6346440" y="3168720"/>
              <a:ext cx="892440" cy="212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одзаголовок 2"/>
          <p:cNvSpPr/>
          <p:nvPr/>
        </p:nvSpPr>
        <p:spPr>
          <a:xfrm>
            <a:off x="1619280" y="2276640"/>
            <a:ext cx="619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179280" y="222840"/>
            <a:ext cx="8856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Учебник «Изобразительное искусство. Ты изображаешь, украшаешь и строишь», автор Л.А.Неменская, М.: «Просвещение», 201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гадки про одежду. [Электронный ресурс].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1"/>
              </a:rPr>
              <a:t>http://ejka.ru/blog/zagadki/443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лектронный ресурс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2"/>
              </a:rPr>
              <a:t>http://cliparti.jimdo.com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Сборник великорусских и малороссийских узоров для вышивания" (1877 г.) Раритетное издание о русской вышивке. СПб, 1877 г. Страниц: 12, Размер: 4,7 М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усский народный костю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].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3"/>
              </a:rPr>
              <a:t>http://afield.org.ua/mod3/mod74_1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усский народный орнамент. [Электронный ресурс]. 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4"/>
              </a:rPr>
              <a:t>http://www.russian-ornament.ru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Русский орнамен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ель: 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Calibri"/>
                <a:hlinkClick r:id="rId5"/>
              </a:rPr>
              <a:t>Вера Ивановск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ство: 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6"/>
              </a:rPr>
              <a:t>Издательство В. Шевчу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10 г., 208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усский орнамент.  [Электронный ресурс]. https://www.google.ru/search?q=%D1%80%D1%83%D1%81%D1%81%D0%BA%D0%B8%D0%B9+%D0%BD%D0%B0%D1%80%D0%BE%D0%B4%D0%BD%D1%8B%D0%B9+%D0%BE%D1%80%D0%BD%D0%B0%D0%BC%D0%B5%D0%BD%D1%82&amp;newwindow=1&amp;espv=2&amp;biw=1366&amp;bih=667&amp;tbm=isch&amp;imgil=DtFarNbSmngZ1M%253A%253B9aqUHBcmZIkTGM%253Bhttp%25253A%25252F%25252Fwomanadvice.ru%25252Fornament-russkogo-narodnogo-kostyuma&amp;source=iu&amp;pf=m&amp;fir=DtFarNbSmngZ1M%253A%252C9aqUHBcmZIkTGM%252C_&amp;usg=__Q1mC- b00WbQkS2I0th5f8dqmpwo%3D&amp;ved=0CCkQyjdqFQoTCPattvD538cCFYaEcgodRt4CAQ&amp;ei=tOfqVfaDLYaJygPGvIsI#imgrc=DtFarNbSmngZ1M%3A&amp;usg=__Q1mC-b00WbQkS2I0th5f8dqmpwo%3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Виноградова Л.П. Использование информационных технологий в начальной школе: Материалы научно-практической конференции.-200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Г.Ладонщиков «Потерялась варежка». [Электронный ресурс].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ovaya beresta.ru/publ/roditeljam_i_vospitateljam/noty_detskikh_pesen/poterjalas_varezhka_kravchenko_b_ladonshhikov_g/22-1-0-13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-main-pic" descr="Картинка 64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4292640"/>
            <a:ext cx="1360440" cy="2305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i?id=347935890-60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08640"/>
            <a:ext cx="2149560" cy="1935000"/>
          </a:xfrm>
          <a:prstGeom prst="rect">
            <a:avLst/>
          </a:prstGeom>
          <a:ln w="0">
            <a:noFill/>
          </a:ln>
        </p:spPr>
      </p:pic>
      <p:pic>
        <p:nvPicPr>
          <p:cNvPr id="337" name="i-main-pic" descr="Картинка 162 из 17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4365720"/>
            <a:ext cx="2230200" cy="2276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бабочка"/>
          <p:cNvPicPr/>
          <p:nvPr/>
        </p:nvPicPr>
        <p:blipFill>
          <a:blip r:embed="rId7"/>
          <a:srcRect l="28133" t="0" r="0" b="0"/>
          <a:stretch/>
        </p:blipFill>
        <p:spPr>
          <a:xfrm>
            <a:off x="3276720" y="415800"/>
            <a:ext cx="2301840" cy="2401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http://www.zastavki.com/pictures/1920x1200/2011/Nature_Seasons_Summer_Flowers_macro_030399_.jpg"/>
          <p:cNvPicPr/>
          <p:nvPr/>
        </p:nvPicPr>
        <p:blipFill>
          <a:blip r:embed="rId8"/>
          <a:srcRect l="0" t="0" r="11450" b="0"/>
          <a:stretch/>
        </p:blipFill>
        <p:spPr>
          <a:xfrm>
            <a:off x="5794200" y="482760"/>
            <a:ext cx="2791080" cy="1969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http://xn----8sbiecm6bhdx8i.xn--p1ai/images/Winter/winter_3_1.jpg"/>
          <p:cNvPicPr/>
          <p:nvPr/>
        </p:nvPicPr>
        <p:blipFill>
          <a:blip r:embed="rId9"/>
          <a:srcRect l="2611" t="0" r="2641" b="4377"/>
          <a:stretch/>
        </p:blipFill>
        <p:spPr>
          <a:xfrm>
            <a:off x="179280" y="415800"/>
            <a:ext cx="2986200" cy="2259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1"/>
          <p:cNvSpPr/>
          <p:nvPr/>
        </p:nvSpPr>
        <p:spPr>
          <a:xfrm>
            <a:off x="179280" y="2817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рода помогала мастерицам создавать чудесные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3" descr="http://www.hnh.ru/file/0002/3120.jpg"/>
          <p:cNvPicPr/>
          <p:nvPr/>
        </p:nvPicPr>
        <p:blipFill>
          <a:blip r:embed="rId1"/>
          <a:srcRect l="17976" t="24029" r="57797" b="18662"/>
          <a:stretch/>
        </p:blipFill>
        <p:spPr>
          <a:xfrm>
            <a:off x="250920" y="244440"/>
            <a:ext cx="4249800" cy="5559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s64"/>
          <p:cNvPicPr/>
          <p:nvPr/>
        </p:nvPicPr>
        <p:blipFill>
          <a:blip r:embed="rId2"/>
          <a:stretch/>
        </p:blipFill>
        <p:spPr>
          <a:xfrm>
            <a:off x="4759200" y="446040"/>
            <a:ext cx="4249800" cy="1128600"/>
          </a:xfrm>
          <a:prstGeom prst="rect">
            <a:avLst/>
          </a:prstGeom>
          <a:ln w="0">
            <a:noFill/>
          </a:ln>
        </p:spPr>
      </p:pic>
      <p:sp>
        <p:nvSpPr>
          <p:cNvPr id="344" name="Подзаголовок 2"/>
          <p:cNvSpPr/>
          <p:nvPr/>
        </p:nvSpPr>
        <p:spPr>
          <a:xfrm>
            <a:off x="1403280" y="1297080"/>
            <a:ext cx="67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Arial"/>
              </a:rPr>
              <a:t>Ор-на-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://www.russian-ornament.ru/images/9/9e/Poias1r.jpg"/>
          <p:cNvPicPr/>
          <p:nvPr/>
        </p:nvPicPr>
        <p:blipFill>
          <a:blip r:embed="rId3"/>
          <a:srcRect l="0" t="0" r="48291" b="0"/>
          <a:stretch/>
        </p:blipFill>
        <p:spPr>
          <a:xfrm>
            <a:off x="2376360" y="4226040"/>
            <a:ext cx="63835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900000" y="476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м похожи эти орнам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i-main-pic" descr="Картинка 169 из 1266">
            <a:hlinkClick r:id="rId1"/>
          </p:cNvPr>
          <p:cNvPicPr/>
          <p:nvPr/>
        </p:nvPicPr>
        <p:blipFill>
          <a:blip r:embed="rId2"/>
          <a:srcRect l="0" t="0" r="0" b="99278"/>
          <a:stretch/>
        </p:blipFill>
        <p:spPr>
          <a:xfrm>
            <a:off x="611280" y="1052640"/>
            <a:ext cx="2886120" cy="28440"/>
          </a:xfrm>
          <a:prstGeom prst="rect">
            <a:avLst/>
          </a:prstGeom>
          <a:ln w="0">
            <a:noFill/>
          </a:ln>
        </p:spPr>
      </p:pic>
      <p:pic>
        <p:nvPicPr>
          <p:cNvPr id="349" name="i-main-pic" descr="Картинка 169 из 1266"/>
          <p:cNvPicPr/>
          <p:nvPr/>
        </p:nvPicPr>
        <p:blipFill>
          <a:blip r:embed="rId3"/>
          <a:srcRect l="0" t="3436" r="0" b="79030"/>
          <a:stretch/>
        </p:blipFill>
        <p:spPr>
          <a:xfrm>
            <a:off x="826920" y="1622520"/>
            <a:ext cx="7345440" cy="2165400"/>
          </a:xfrm>
          <a:prstGeom prst="rect">
            <a:avLst/>
          </a:prstGeom>
          <a:ln w="0">
            <a:noFill/>
          </a:ln>
        </p:spPr>
      </p:pic>
      <p:pic>
        <p:nvPicPr>
          <p:cNvPr id="350" name="i-main-pic" descr="Картинка 119 из 1266"/>
          <p:cNvPicPr/>
          <p:nvPr/>
        </p:nvPicPr>
        <p:blipFill>
          <a:blip r:embed="rId4"/>
          <a:srcRect l="0" t="3944" r="0" b="73088"/>
          <a:stretch/>
        </p:blipFill>
        <p:spPr>
          <a:xfrm>
            <a:off x="755640" y="4440240"/>
            <a:ext cx="7416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451400" cy="230328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583080" cy="2133720"/>
          </a:xfrm>
          <a:prstGeom prst="rect">
            <a:avLst/>
          </a:prstGeom>
          <a:ln w="12600">
            <a:solidFill>
              <a:srgbClr val="cf543f"/>
            </a:solidFill>
            <a:miter/>
          </a:ln>
        </p:spPr>
      </p:pic>
      <p:pic>
        <p:nvPicPr>
          <p:cNvPr id="353" name="Picture 6" descr=""/>
          <p:cNvPicPr/>
          <p:nvPr/>
        </p:nvPicPr>
        <p:blipFill>
          <a:blip r:embed="rId3"/>
          <a:stretch/>
        </p:blipFill>
        <p:spPr>
          <a:xfrm>
            <a:off x="5724360" y="1197000"/>
            <a:ext cx="2643480" cy="4753080"/>
          </a:xfrm>
          <a:prstGeom prst="rect">
            <a:avLst/>
          </a:prstGeom>
          <a:ln w="12600">
            <a:solidFill>
              <a:srgbClr val="cf543f"/>
            </a:solidFill>
            <a:miter/>
          </a:ln>
        </p:spPr>
      </p:pic>
      <p:sp>
        <p:nvSpPr>
          <p:cNvPr id="354" name="Text Box 9"/>
          <p:cNvSpPr/>
          <p:nvPr/>
        </p:nvSpPr>
        <p:spPr>
          <a:xfrm>
            <a:off x="971640" y="40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объединяет эти уз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971640" y="33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циональные русские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7" descr="Так выглядит русская народная женская рубаха"/>
          <p:cNvPicPr/>
          <p:nvPr/>
        </p:nvPicPr>
        <p:blipFill>
          <a:blip r:embed="rId1"/>
          <a:srcRect l="18367" t="0" r="16339" b="4243"/>
          <a:stretch/>
        </p:blipFill>
        <p:spPr>
          <a:xfrm>
            <a:off x="2260440" y="1260360"/>
            <a:ext cx="2303640" cy="4826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http://rusorn.ru/wp-content/uploads/2013/11/%D0%BA%D0%B0%D0%BA-%D1%81%D1%88%D0%B8%D1%82%D1%8C-%D1%80%D1%83%D0%B1%D0%B0%D1%85%D1%83-%D1%84%D0%BE%D1%82%D0%BE-42.jpg"/>
          <p:cNvPicPr/>
          <p:nvPr/>
        </p:nvPicPr>
        <p:blipFill>
          <a:blip r:embed="rId2"/>
          <a:srcRect l="20625" t="0" r="9349" b="7502"/>
          <a:stretch/>
        </p:blipFill>
        <p:spPr>
          <a:xfrm>
            <a:off x="4594320" y="1281240"/>
            <a:ext cx="2592360" cy="4825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Русский народный крестьянский костюм"/>
          <p:cNvPicPr/>
          <p:nvPr/>
        </p:nvPicPr>
        <p:blipFill>
          <a:blip r:embed="rId3"/>
          <a:srcRect l="62283" t="0" r="0" b="0"/>
          <a:stretch/>
        </p:blipFill>
        <p:spPr>
          <a:xfrm>
            <a:off x="322200" y="1397160"/>
            <a:ext cx="1800360" cy="4724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Русский народный крестьянский костюм"/>
          <p:cNvPicPr/>
          <p:nvPr/>
        </p:nvPicPr>
        <p:blipFill>
          <a:blip r:embed="rId4"/>
          <a:srcRect l="6444" t="0" r="58447" b="0"/>
          <a:stretch/>
        </p:blipFill>
        <p:spPr>
          <a:xfrm>
            <a:off x="7269120" y="1403280"/>
            <a:ext cx="1676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7" descr="http://rusorn.ru/wp-content/uploads/2014/03/%D0%9C%D0%B8%D1%85%D0%B0%D0%B9%D0%BB%D0%BE%D0%B2%D1%81%D0%BA%D0%BE%D0%B5-%D0%BA%D1%80%D1%83%D0%B6%D0%B5%D0%B2%D0%BE-11.jpg"/>
          <p:cNvPicPr/>
          <p:nvPr/>
        </p:nvPicPr>
        <p:blipFill>
          <a:blip r:embed="rId1"/>
          <a:srcRect l="9815" t="9279" r="8249" b="15784"/>
          <a:stretch/>
        </p:blipFill>
        <p:spPr>
          <a:xfrm>
            <a:off x="611280" y="765000"/>
            <a:ext cx="7416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4" descr="http://www.hnh.ru/file/0002/3120.jpg"/>
          <p:cNvPicPr/>
          <p:nvPr/>
        </p:nvPicPr>
        <p:blipFill>
          <a:blip r:embed="rId1"/>
          <a:srcRect l="50321" t="22385" r="12631" b="25172"/>
          <a:stretch/>
        </p:blipFill>
        <p:spPr>
          <a:xfrm>
            <a:off x="179280" y="1484280"/>
            <a:ext cx="3579840" cy="48481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3" descr="http://4put.ru/pictures/max/624/1919082.jpg"/>
          <p:cNvPicPr/>
          <p:nvPr/>
        </p:nvPicPr>
        <p:blipFill>
          <a:blip r:embed="rId2"/>
          <a:srcRect l="3938" t="10429" r="1513" b="21220"/>
          <a:stretch/>
        </p:blipFill>
        <p:spPr>
          <a:xfrm>
            <a:off x="4356000" y="4240080"/>
            <a:ext cx="2303640" cy="241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rusorn.ru/wp-content/uploads/2014/03/%D0%9C%D0%B8%D1%85%D0%B0%D0%B9%D0%BB%D0%BE%D0%B2%D1%81%D0%BA%D0%BE%D0%B5-%D0%BA%D1%80%D1%83%D0%B6%D0%B5%D0%B2%D0%BE-5.jpg"/>
          <p:cNvPicPr/>
          <p:nvPr/>
        </p:nvPicPr>
        <p:blipFill>
          <a:blip r:embed="rId3"/>
          <a:srcRect l="1432" t="0" r="0" b="0"/>
          <a:stretch/>
        </p:blipFill>
        <p:spPr>
          <a:xfrm>
            <a:off x="3635280" y="285840"/>
            <a:ext cx="49690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0" descr="http://rusorn.ru/wp-content/uploads/2013/11/%D0%BC%D0%B5%D0%B7%D0%B5%D0%BD%D1%81%D0%BA%D0%B0%D1%8F-%D1%80%D0%BE%D1%81%D0%BF%D0%B8%D1%81%D1%8C-%D1%83%D1%80%D0%BE%D0%B2%D0%BD%D0%B8.jpg"/>
          <p:cNvPicPr/>
          <p:nvPr/>
        </p:nvPicPr>
        <p:blipFill>
          <a:blip r:embed="rId1"/>
          <a:stretch/>
        </p:blipFill>
        <p:spPr>
          <a:xfrm>
            <a:off x="4933800" y="333360"/>
            <a:ext cx="3959280" cy="5767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http://rusorn.ru/wp-content/uploads/2013/11/mezenskaya-rospis-03.jpg"/>
          <p:cNvPicPr/>
          <p:nvPr/>
        </p:nvPicPr>
        <p:blipFill>
          <a:blip r:embed="rId2"/>
          <a:srcRect l="48688" t="24596" r="2715" b="11899"/>
          <a:stretch/>
        </p:blipFill>
        <p:spPr>
          <a:xfrm>
            <a:off x="324000" y="765000"/>
            <a:ext cx="4394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16:42Z</dcterms:created>
  <dc:creator>Admin</dc:creator>
  <dc:description/>
  <dc:language>en-US</dc:language>
  <cp:lastModifiedBy>Vitaly Lunegov</cp:lastModifiedBy>
  <dcterms:modified xsi:type="dcterms:W3CDTF">2017-11-26T15:47:08Z</dcterms:modified>
  <cp:revision>42</cp:revision>
  <dc:subject/>
  <dc:title>МОУ Борискино-Игарская СОШ</dc:title>
</cp:coreProperties>
</file>